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9AF-A677-4705-B3F8-F336EF6D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505-6CEB-4A20-9DD7-5C537A1C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B6A-B95F-4690-8C3A-3AEBAA62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6C8-02F1-4E07-83C8-35DCA0F3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EA85-35E9-46BB-BB3F-AB67B347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D743-3FCE-4E7B-9159-1F0380D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DF57-835D-4DCE-B6B7-F6FACBF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BC09-A72E-403B-B238-C3574DAC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9744-729E-4E7B-91C4-C9DC7A56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3C0C-89C4-4796-85B1-A149F25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DBE-52E2-48FD-9618-760E9A3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7B1-C80B-45CA-8035-A37AF7E7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ECB5-4A7A-4989-8E70-BECE7D49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99A3-8A73-400D-9CDE-CCD6B76A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A3EF-57ED-49A9-8CEC-5FBB0284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B0ED-F359-487D-9FF6-FABD2DDE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FF61-8526-4F31-853B-B44AADBE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5F7-0497-4194-B49B-2316558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016-5423-4F11-9E24-D8F5CAE1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494-923B-40EC-984F-D9BE7F5E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392-636F-4FF0-A72C-B83E133A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D26-2510-4B30-BE9F-F1F058EC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6B9-D6EE-44EB-A312-D9AA19E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DFC-4BC1-41D2-B122-52C5373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6785-EE5F-449F-859E-D3FF6FE7D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BD50-B8E4-437C-82EF-11A5BC94C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Note Guide 7-5 Rates of reaction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2952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peed of chemical reactions can vary from instantaneous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s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9051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speed of these reaction rates is usually expressed as the amount of reactant changing per unit of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146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s of chemical reactions related to the properties of atoms, ions and molecu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31240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e show this through a model calle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llision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505320"/>
            <a:ext cx="609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dea says the reactions take place when the reactants (atoms, ions, molecules) collide with each other to turn into the product of the reaction. IF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495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icles have enough kinetic energy to do 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If the particles do not have enough energy, the just bounce back 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unchanged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course, we have to have a name for the energy required for a reaction to take place:  activation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36232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n reality, the activation energy acts as a barrier the reactants must get over for a reaction to tak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Energy changes in a Reaction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318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4 factors affect reaction rates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21932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mperatur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usually raising the temp speeds up reactions wh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ing the temp slows them 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7524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temp increases, the kinetic energy of the particles increases, causing more collisions, causing activation energy to be overcome quicker, and alas, products form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6668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ent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particles in a given volu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ects the rate at which the reaction occ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27672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more particles crammed in, the more collisions, alas the faster th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cle siz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otal surface area of a solid or liquid reacta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ects the reaction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4495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ncrease in surface area increases the amount of the reactant exposed for reaction, which increases the collision frequency, and alas, the reaction 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4. </a:t>
            </a:r>
            <a:r>
              <a:rPr b="0" lang="en-US" sz="2000" spc="-1" strike="noStrike" u="sng">
                <a:solidFill>
                  <a:srgbClr val="221304"/>
                </a:solidFill>
                <a:uFillTx/>
                <a:latin typeface="Times New Roman"/>
              </a:rPr>
              <a:t>Catalysts</a:t>
            </a: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 (a substance that increases the rate of a reaction without being used up during the reaction.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6002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 do catalysts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9810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reduce the activation energy barrier, which allows more reactants to have the energy to form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6668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why is the catalyst shown above the yield arr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124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its not part of either the reactant or pro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65760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talysts are important in many life processes beca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m reactions in our body would not ta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quick enough. (enzy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Times New Roman"/>
              </a:rPr>
              <a:t>Effect of a catalyst on activation energy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6294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0:58:14Z</dcterms:created>
  <dc:creator>Farwell Area Schools</dc:creator>
  <dc:description/>
  <dc:language>en-US</dc:language>
  <cp:lastModifiedBy>Customer</cp:lastModifiedBy>
  <dcterms:modified xsi:type="dcterms:W3CDTF">2010-01-25T15:43:47Z</dcterms:modified>
  <cp:revision>6</cp:revision>
  <dc:subject/>
  <dc:title>Note Guide 7-5 Rates of reactions</dc:title>
</cp:coreProperties>
</file>